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92BD-AB29-44E6-BF43-6A971B61F9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72AA-F5BE-44A9-B75C-DF86DB67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1F3C9-954C-48A9-8C07-B520CA77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BD3F2-34EB-4E87-8BDB-A8CEC2E5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EF8EF-BE0B-40E8-8DC0-6829E08C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D3C71-A1F6-418C-A644-DD25AE1A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176154-5AF9-4D1F-B161-6BC29410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6521A-8FEC-4610-B9E4-636FD92A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EBAA8F-213C-4602-87DC-8008C550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6BDDD-B531-41E8-961B-1ADE4F0E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35E8A-D141-4744-A942-3F8185E6B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120236-C4F5-467A-8CB4-2DF952F710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722C-A41E-4067-87FD-111D7AB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FE9003-C5D9-40EB-9D4E-1E0B6D4E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420A58-5026-48D7-8E86-F1B81452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C1B65D-B288-40E3-9291-6E2AA401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473B10-BC70-4C29-8E04-3F516B11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EBABE3-ACBD-4022-9806-41CAE47E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78698C-C939-494D-80E1-EE7C8F35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5AB4FD-42E4-4854-BAFE-AC7C49CF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DB46AF-AA25-49C9-93BC-B7CAF881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BCFE9A-B34D-4570-A8B8-25D30908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3F5BDD-194E-4678-B271-3C07CE1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1E96-F8F4-4C22-9EF7-37229B4548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6C39A2-C2A1-4229-85DB-CF0ED0745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AF05F-0FA3-4FDD-AF6B-38C4928AF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67F6B-FA8B-457A-A0CD-946BC8AD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80FFB-FA26-4D76-8032-C21AEBD8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614A6-CB6D-46C2-9030-B3FF529A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02EE9-A81B-42A5-913F-66B728A0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55AAC-B789-472B-8B2E-6142FB54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69454-F58B-488D-8310-7F5B92BB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60166-0564-4920-A714-65EE8344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DDA03-07F2-4949-82AC-9C81BFF0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71516-C370-4839-86EB-0486436C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6735E-BF10-4012-A11F-AE6ED0BF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1D16B-E105-4D81-A1FA-764DFE35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A37A7-CD42-4AB0-A411-B37056C6CA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A3B732-9BE2-49C2-A2A4-C8E9B5841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16A5FD-C1C1-4ABB-9FF8-AAB24C35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3C49FC-3125-46F2-83B8-3D198A18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86F31E-BFEE-4E30-BFE6-D42A291B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05253B-7BA7-46E6-A37C-9818B969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5C077C-128C-40EE-8D39-FC92AE64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80E54-29B8-4292-82DA-E9055C4C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B68A7-C131-4611-8CC0-4CBFC7DD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67DB97-C860-4E39-9EBF-3B8D6C8F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31AFBD-ABF3-4211-8CC5-61F025C0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849AF-1BB5-4BF8-8FAB-E5B1B5B9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585A32-C0F8-4E74-AEFE-DD013194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6D6796-8DD3-42E2-A6E6-0BB1311320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57114-6A35-4A03-AE4F-7F95C24B2C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51E53-6844-4464-8FC2-164DA84F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59466-C412-4D34-BD0E-3D01A0FF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A56F6-C0C4-4063-8575-D61B5A2C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BF838-96A8-49EC-87FF-A85CEA0D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F74AA-AE35-4164-BCC8-A9857E43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94F69-44EE-4C37-8815-36A9A815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933B5-EB0A-4765-873C-94B67B43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814F7-A725-4861-AD09-030133B6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4A0FB-8B77-4624-B85E-FA4D9FA9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79929-0360-4453-98CC-47BBA69B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8BFB7-F149-425A-AF2D-45B8EE34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A09EC-8613-41F8-9001-9CBEB6EAB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0449D-8890-4434-8264-0A6A186796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C316B-A6DF-4B41-99DC-BB8792A3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9DEF1-B01D-4C32-AF76-C22CBEBA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2DF18-F757-4999-A322-1B6683EE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7F6E9-8B48-4469-94A9-973CEC0F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C3F52-8B09-4C04-844F-7A511D7E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4FE90-DFD2-4B1A-ADF8-7D6251B0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A33D8-BFA1-4494-BBE3-45CF024E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99D98-C9D4-4D0A-B4BC-5FCEFD23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4B8D0-BCEC-468E-8B94-6A6200E7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F119C-81D2-46C7-B3BB-02235D52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6CE3A-56C4-4F99-9F16-8A835E9B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D3A6F-A0B1-466E-92CF-C737A4411A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06B77-858C-468B-9DEE-C9F314F2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A2943-4D7B-4F75-A552-338BBA3C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41936-81F9-4A06-B4AD-499EEDA0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A70BA-4951-4320-9C39-F682F21B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1C57E-1DE2-448A-99BD-A8A5FFD8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B90CF-FC4E-4620-AD88-F913C162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73238-E50D-47BA-B906-C3295423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32A15-4F9D-4B1D-9B61-4F86DF0A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629CB-F3C0-48BB-A1AB-0D72FA03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3385B-2091-4BF4-99F2-3D88E986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06C29-B444-4856-8137-720107F3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C51A9-3D10-48FF-86FC-0986C15B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BA52A-CE54-4A8B-8FF9-99709C92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84ECE-21F3-4EB2-9392-F3EF4758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C5AF1-43EA-407B-8658-631959A6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44E5A-B741-4926-B31F-2C92DDA7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48A38-715A-41BC-B031-154B108F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B783E-4451-409A-A23D-EFFF7A88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48463-81A4-47A1-B0F8-82D13EC7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15DAF-0CDF-482E-B8A9-474B8390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8E37-4D45-4525-BAA9-90208A4F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2A947-0FD7-41FC-A285-295BF8C5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6A3DE-D1B6-43E9-8DC9-C7B4F73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30135-1C43-4D45-987D-705667C9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D6356-A655-424B-8DF8-983E0909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AEDD2-D2A2-4356-AF1D-6FCD868B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97FFE-9E5E-4545-879B-F9977155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3F1F2-6618-48BA-95D5-EC9727D9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5A73A-D4E5-469D-B35F-E58C6FD2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42D74-B895-4A71-BFE2-A0CD028E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B4090-08A1-42C3-8B65-D056563C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CEF63-918F-4F73-8031-730FF565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680AF-9ED2-4BF1-AC10-1780EFC3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85A80-53C0-4DA4-B608-19FB7DC2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C2CA-9A48-4235-9873-01542712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CCF01-72BF-41F0-B1CA-DD2DAFDD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C7BBC-8AB0-422E-9D8D-79BAF64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3096A-283B-465A-9764-F043A128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33042-3464-4B6E-B22C-67D0618E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55C10-AFB4-4365-A5A2-FDE801BF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3B483-73A3-4B56-83B7-BCCF7CB0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6D9C2-0F38-4217-82C3-0B14C509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C1424-24D6-418F-9177-7D7D57E8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45A03-7CC8-4A16-BC59-443ECA66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F8A5E-0B9C-4F57-A16B-3E240D15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2A4B3-9C8F-4C83-A6E7-A05FC85E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0A280-3904-4379-8B4D-096959A0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99127-5F6F-41CC-A4A5-5F57E3FA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959C8-A7D5-4419-9543-C3796D2D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EAC8F-090C-42AD-915D-F83C2501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8EA49-04D2-4FDA-84A2-89BBC362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9A945-EAF4-49E8-87ED-7D5B5D1B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2459A-CAEF-448C-A5A8-7C860207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82636-3612-450B-B15E-CDB64757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A1051-E476-46EF-9802-1D002DED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E7DD3-FC1F-416E-A054-F308C4DA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FD471-5C0D-4E45-88B9-7E026FDB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81180-2E28-4E4A-B3B6-1286791C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DBC02-71C3-4306-8108-12FA9B17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41758-DC21-437C-A198-73A919FF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40FEE-30D1-4460-BA0F-A361793B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60BF7-3316-489E-91CE-295CF094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68FF1-2DF0-4A71-9751-693F554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B91AD-9E7B-4A59-9566-F8DE0448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5F5AD-51FF-43A5-8EAF-43ED2757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864D5-A8BD-4535-B545-469F5105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19237-0A52-4A66-8B05-D4A03398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44BD7-E32C-46A7-B072-474E62B3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6200B-8A5D-43CF-8DC1-14C912AD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555C1-D7C6-4412-9042-5C33DDD2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921E9-3AAC-4B50-857C-7CF7EEFB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E99FB-1D81-4F12-AFF3-C724F255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9CD11-1B44-4DAA-AB3E-CF0E2D3F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1AC8A-4761-480E-87B1-F86BE7A4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FE883-AC15-4998-B282-C15A88E4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9396D-95A5-4139-800A-2A5A62D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DDB13-502F-4A0C-B7D6-7EC942E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19150-EB85-4153-BA3C-B23184E0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2C77AA-136F-438E-BBD1-5D441E90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FC2F6-9A86-472E-8EFC-681B9C25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39BDC-5C5C-438E-8891-8159F773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BFBDB-4786-4962-8727-F815EFE4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E7604-532C-46C1-B878-61951984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A37E0B-E32A-4D87-BFC5-AC09A70C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4C66C-D8A2-4A46-B9C0-53BE6124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A5FDE6-AA1E-40ED-BECD-C4B251A1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59024-740F-4B42-9919-0A7E6E2A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0DFE2-7451-48C9-A826-EE504233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72780C-5366-4507-ACF0-17CDE19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C7FFF1-4783-45C9-8B6F-534E3207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86516-CBE0-41A6-ABFD-0DC38E74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5F565-BFCA-4327-BAC3-4AA48F5D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32D7C7-5DB9-4F49-A51B-FC20C692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BB95BE-8E5F-4933-8868-312C98BE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3BAF8-51F4-4106-A930-A23DFDD7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BE79A-9547-4A93-AF0B-9946804D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03D6B-D6B8-40F4-9B6E-097E2DAC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F540B-5562-4F58-BC9D-DED1F8C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BAA53-95E2-4386-AAF2-7F4CF0BC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EFFC50-973F-4B03-B533-E6E3E5C2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CA8D2F-8A74-480F-8C87-853F25A0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634F6-8250-49E4-A755-9E9359CD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A2788-460A-4F63-BFED-8AE3490A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E415B-362A-4B75-9189-96BF6303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338606-A8A8-4ED4-A7F6-7E7274DC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D22D8-1D6A-4685-81AC-AC1B436B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56055-E1A3-4167-BFA1-15F381D4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85B253-6206-47FA-854F-1AF8F4B6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BF4C9-2723-41FA-AF36-BDEDB662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129F06-6097-445C-AFE3-A7563080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FD93C2-CF22-4147-AEAF-606AA98D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99056F-0953-4924-ADC8-05BF2B67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537A4-1946-4092-8EF0-F9435AB5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6EA86C-EE38-4AAB-BDC4-09EB3A24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1F9A6E-5E9C-47D7-B059-7B80B0B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86ED71-DBB7-4953-BBF5-2CE5DFF7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CD641-EE2D-4166-8CCF-689F2FE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8178D-C41F-4132-B171-BF11F6BE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C0E72-473B-4E80-9DED-0548611D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D700BA-FC47-448A-96B1-934BD5DC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B06812-FC21-427C-9858-E1591139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862156-F5A9-4429-A7D9-8414B23A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9401C-1C96-45E7-8F31-1830CA15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E48CA-2858-46F6-86FD-BE605641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3EA1A4-39FA-4444-AB00-3344F0E2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93BA7B-C2F0-48FA-9426-219B2175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575FDD-E5B8-4828-A70C-AE5CD0D9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444BAA-CCC7-47D4-8BD5-A5F6FA2E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0E8CA-1375-467A-A859-B5AA1DD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2EA35-C554-47CE-94D4-A4EBE938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6C481-4B50-41A3-9FF6-C6E97694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6529A-32EF-4FA4-AC3C-470A7116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7637C3-7FDC-47BE-80A3-8E92A4EA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87FDF-4D4A-40CB-9890-06B6B523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9ADC3-287F-4AA4-8D4B-B5D1C207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DAD825-5F6C-4541-9E04-D8B3E7E0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474CD-CFEC-467C-99E1-C0CCA623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C0525-F4CC-42C3-9450-253D5CDA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61235-8F1C-4B38-BEB6-C5A980D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2A264-C3D4-4DBD-A03D-FEC7588C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B64950-D350-4FA2-8350-36E744A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8CDCA8-23A4-49EC-8392-7C3506CB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8C98C-8FA8-4AF3-AA81-BDC82418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1FB67-03C9-4937-91FA-E86F83B9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A6055-0635-40C7-8C44-E0D0ED1B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4841-2533-4F2B-B298-C51A3D73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223B5-AB1E-4B2D-B8A5-F51AD909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5D2E90-E3C3-46B9-924F-645A843C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09C1AB-4662-4FDF-808C-6DE3BCD0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8309DA-FAEA-4A5B-AAB7-59850128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0B263C-D0D2-4FB5-9DD4-2B2FDA66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984017-89AE-488E-8559-8D5082B3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BEF710-E574-433C-96ED-73E76021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1D6B3E-B801-4CC8-9F64-2CA132BF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E1DC76-6598-42F7-B431-46F29141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935496-5E25-4907-ABC2-DCFD6434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46DD5F-6F3B-448A-AD73-0B83FF37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4A8EA-B674-4473-A72A-47E4D903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97DC0C-1C96-4174-B99E-65CD5E04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3C19EA-88F7-4B44-AA31-B52DA49B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770C67-7D68-4F7E-83BB-C8E5CC99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9848C5-9FF1-4279-8B40-61C9CB5B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864B77-BC17-4B51-AC4C-1B195892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483900-3468-490B-9E8C-A820E2B8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663CB4-1A68-4FA0-A3C5-6F9342EC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1E2E75-2FF8-40E9-A609-27989E89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678029-8E49-4B9A-9C01-3149F365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726B04-74DB-4EDF-90CB-CAF3DF01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90D20-B61B-4D11-96BA-B815483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829180-BB2F-400C-86F7-6FE7F35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EA2FB7-6539-4540-AC1B-7150CE8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870CA0-FB01-4C5C-83ED-59C7D079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C0811E-5F9D-42CB-8AED-031B2C87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A7850D-1784-4E20-9F9A-B01AB6D4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183F3B-9DC0-48A4-B154-08AEF186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DBA17E-8705-444A-8E19-95CC3486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CF3465-6D30-41E9-8F5C-CC043EA0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B816F2-C51E-45B5-AF55-8382527E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7E112F-BCC5-429C-9625-26522B2D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7CE91-3209-4722-9B40-67FA89A9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62B2C9-5540-4FA7-8041-B5418484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541494-5659-4964-9260-D24E222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E025F6-A5F5-4C69-9CBD-69D2FCD0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CD5DB1-E8FC-42C9-B660-7477DA8D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D7E7B8-CDB7-4222-9024-5491A74A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583E4F-BC37-4A08-9AED-0FFDEAF2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9C1383-D226-4505-828B-DB21DECA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1A0CB8-DF79-416B-AD9F-C2AD8D65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542AEE-D27B-446D-8E88-88A0A1DA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43599F-9DD2-4FB9-B59E-1C2E6459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36221-712E-4435-A016-67179072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258703-DE43-4DD5-9120-52BB3C4B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11F9D8-28C6-42FD-AF13-51C61B92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2C7E7E-D1E2-4D23-84F4-ACC5BD73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FBA354-FF7D-4D83-955A-2B4A3AF1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F4CEA6-B5D8-44B7-B067-EF6D4FCC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ECBB93-4820-42DC-AC48-0ADC10E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BB2754-FB44-4546-BCE8-28B922A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9F8C3B-E00E-4B89-BF26-724FD6C1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7705C2-4FAC-46D0-B0D3-E2DDEACC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F6E397-217B-4A85-8AE4-B17E8017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A3F99-DD7C-462E-A7F9-B2274AA2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D8D509-F419-417E-BA04-C92D600B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10E9FA-2327-4ED5-8C05-9D3C46A5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D2AEC9-B312-4D51-B54B-8852923E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9E7EDA-3E4E-4262-8629-B7B16707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68A337-CAD4-47F0-8449-BE486314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B9A4AE-7FCB-4F44-AEE8-13AD2B5B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06DD80-A38F-4E42-840C-84651C1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034D6A-272B-4888-BAAF-039774D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239EC9-B72E-4746-A208-20C1A894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744F34-B39F-443F-BFA1-26E1DC40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AA81B-8C10-4E9E-97D0-5163D1E8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87CDD1-46B5-4DB9-8013-CD8F2946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E66529-0664-4E25-971B-3A783F97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E9C878-8E43-4C5B-A420-EAA37523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824ECE-9CAD-41B7-8EE1-D9D20BEA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E763A7-8CF2-4DEB-AEB5-91EAF083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C7DC6D-26DC-4590-8865-4691CA13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77FCB3-DCA3-4B0C-8624-91C91EB6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560150-3B86-4587-AA59-C51B58D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CB90AA-69F1-48DF-A942-D8B1D70A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93D2DB-EBC0-4091-9701-102FADBB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F1ACC-D1B4-4955-98B2-2D48E3A066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1D597B-0B17-4077-9B47-5773DDBE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83098B-F377-4958-B2BE-1A6E8ACC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A9CC1F-2D38-45F7-98BC-1FAF3339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E84CC7-A627-47A7-A31E-79DF3415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32E019-BC9C-4324-A472-39D6D509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438A81-172F-4B8D-8160-1A40E2AE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A98841-9F3C-4C78-91F5-FCBBA4E1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55DB6A-3CCE-4694-A6D9-A6112050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1D35C3-D13C-4781-A39A-4E5F9BE8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2ECF94-C577-44EF-898B-33009B15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C0100-0B41-4FCB-B4AE-6B2BBC4E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6269A1-C3DE-451C-AD83-04AA815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C34853-B638-4204-9CC7-3E58F0B7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ADF2ED-41DD-40F1-97F9-EBF630F8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391040-E318-41DD-83C6-B9B40603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1E3733-7D85-49C7-B036-FF509021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1887D8-46C7-485B-8C93-B7899B4A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76B201-7E23-43B3-9206-F6C068FF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BA73F0-F7AC-43EE-9055-8CBA18E3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66B987-2A85-4334-8C63-DE4EC190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55F23E-98BD-499F-8C9B-A29E9D8F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AEC4D-BDC4-4E24-8F51-5773851A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2921F9-D392-4274-9AF3-C869A063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2FC84C-9A76-450A-8693-6DEC1C7B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9761E5-295D-47A2-BF2A-2219E534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F49F0D-3951-4390-8C96-EEFD2C0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7A9FA1-ABDC-4569-B1BA-419D643E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8A09FF-B0FC-41B5-95DD-75F33B92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656F12-B039-4620-88B6-CB9719A6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D016B6-E0ED-4CE1-8E1E-C3053CD1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F4664C-FBC0-4B8F-B86F-46E4E17B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D57825-078C-4D33-B270-312C7EF2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4EFA9-3A51-4FF2-B0DA-4FE93708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CD197-6EA2-4C5E-9A54-D50F097C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612748-43D6-457A-A91C-D111103D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6EF8DD-6B76-42E4-837F-3045C4D2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B9B82D-76BD-4E5C-88CF-6A19DD38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19341C-BF7D-4A77-B172-036F6CCC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6B89DC-DEDF-45EB-901F-D9BF97E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85B274-0E42-4964-955A-DD4E6FFF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C265FC-F3B3-49BF-8DEC-13A857D4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58B853-9BFD-4D98-A8D7-D5452DD1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5B90D7-3C28-4277-BFD9-A85B0251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6229F1-93C7-4AA7-8535-B1DE49E7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CF1F9C-B0D3-4D94-B3B2-D8A15E0A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8F2A0C-3361-4737-AF2A-4949C78B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13F908-1DE7-44D3-8B26-2A07BF60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8BECB0-DD79-4368-B54E-C895D732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BB1635-F756-469F-9870-38A92DE6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E986FD-15FE-4766-92B8-2582F5A6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F078C3-4BDF-48A8-8909-9901DED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6D8668-644C-414A-B4F9-F609E931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7D94F7-D535-448D-BB43-E031DD74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FD82A5-9D6D-4529-8942-108FC027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288AC3-2CF7-45C9-B012-A4D4CA4F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CAB20-84B7-49A7-9AE6-4DC9CE12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933CCB-7E40-458F-9A9F-C66D8E4D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DD25CF-EEDE-4FB5-8894-E159C8B2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2F77AE-3484-427F-8E2C-2E943402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B37C57-8BC4-4A81-8E5A-1BC587DA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1A383D-0588-424E-A926-BCE823EB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E708ED-FC5A-47A7-89E5-007B08DA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9F4ACF-3DBF-402E-BFF5-6EC2FEFF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78353F-1939-4236-A007-F07772F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855EAD-6AEA-45BF-930C-A5408988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DD5B54-4239-4DFB-BDDD-3ADDE132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9F7086-1411-4548-8029-6995866E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F91365-3DE7-408A-955E-A46B641A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91FD33-EAD4-4B5A-81C7-46C3607F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C2FD9B-0414-4847-8774-701F8543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FFA7D-B42C-4139-8B4E-EE2DBE68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F850D-2045-424D-B4C1-A71904C0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CEA96-181F-4214-B104-46C6C9A4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1FF9B-05A6-4F62-9C39-75C4861D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52A74-2FA3-482C-9082-049C1F2214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5F04-6E6A-4CD7-9A57-72C0220E92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21C6-857E-4837-A6E4-B2DD8105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F7053-886B-4B97-9B05-C7CA552F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2C3BE-2E51-4BF1-BFA6-F2F3D71C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90C36-7245-4FC9-B176-183EE687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C87E-E34B-471C-9DEB-E0E87C4A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EB61-56AA-4B5C-9126-DA3B4942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F0E2D-C31E-48F1-98C5-0A1F390C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D8EA-4041-4C3F-9F57-FEE7E22C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9237E-9EEA-4A8A-AED9-C06556DA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794D5-04C5-4DF2-88FB-5E688176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5C9DA-A57A-4E3D-A98D-D782DF0F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A980-5C63-4DD7-B7DF-0182C829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7F8B0-8AF5-473C-9C9B-D413F9BBBD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3E692-864D-4561-8C55-FC5FA9EE7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DC678-C87F-4B24-8288-21C67414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CC707-9CBE-4618-BD6A-D06B3767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215FF-8447-4CF3-B0C9-F5BBED39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C9ACB-7DA2-45E4-9966-15E1713A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16FEF-7720-43B1-84B7-13EE5954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D3D1A-EE45-4235-9E73-2E77A19C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B1883-FFA4-4D0D-9758-FBDD5B29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90F10-8679-4679-BE46-B4487D1B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43F5-0C1B-4279-98E1-2DD1588B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7E44C-3461-4CE7-9C9D-98C5E004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8D561-887B-4B74-8ADA-CC1487D5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8D84E-3DE7-448A-8857-298580A25E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46DC7-03EF-4785-9561-6D2388886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9901F4-CC2A-4B7E-B0F2-960E9C3D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B19437-8214-4538-AD65-FFE04E3E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603DF3-CBD2-40E6-AD78-F34D74C7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D8CA2F-24E1-4432-A10B-C59250E6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51F2F8-A902-4B55-85E5-22338507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497BBF-A5B1-4B06-89CE-BF8C5136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1952-CAB0-46A3-97D5-197CD467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AF5E2-F399-4B53-939A-71702EAC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BE2458-1A62-41EA-8334-5ED47744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E5EB59-5455-4BD9-8C8E-6809A587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6B42E5-7403-4889-A0C9-427FC4D4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AB8CC2-F49E-4917-9F55-62EF144264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73728-BC7A-4F8E-9DA3-5D550EC63A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86428-E128-415A-B4F5-2537408D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E3129-0EC3-48D3-8071-76F1886C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142B7-E93B-44E4-89E1-BAFF704E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F35D8-3BB3-4A91-9BC7-40ECF09A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B951-F798-4BA4-A361-68F8F1A2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4F899-01C0-4AD3-8905-5A8339D8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3C6A-0764-482D-8090-8C9AB7D4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C3C37-9918-482A-9E00-19DCEBB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DA0E2-F0C0-4F47-A790-0D3DDD72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9BC5F-E745-4EDB-9C3E-0D2FFC5D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A5130-3075-4706-BD42-E62E89F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AC3FC-1040-4741-80B2-80C0871815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74C72-158D-4D4C-AB95-FC02658499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C9D8F-1FA7-4EB2-90D2-756F0FA4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9AA93-5A89-4FF2-A1DA-680EE8D2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D8BE-B239-4B3A-87F2-383B0134F19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A933-9092-437C-92D9-AADA3E808D4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5565-FFEB-4490-A357-6788D2CB237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713A-CD5D-4C20-B94A-3E855246D30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77D4-47AE-428D-93AF-F1ED64CD0D8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610B-92BA-4073-81A6-233D0A34B9C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D2D0-D65D-40F2-836D-5B92AD70D04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E90E-EE61-4F5B-A8A1-F1BAAE92724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69F3-5344-4C47-9EC2-07459E77CE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D16B-ED4F-4223-8C93-9EAD3134EFA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369E-96A3-4606-B919-2737DBF4BA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6583-B102-409D-82E4-BF6DEAFEBF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986D-1F55-4EED-B1C3-AE063AE3E92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5C52-E37C-469B-9869-87A69FB4179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BB6C-4B49-4C09-97B8-ABF490CDA9E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24F3-D1B0-4F52-97C1-75D9AD93F2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8BE2-C99D-4B29-86F4-F119BA4AE78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28B7-3435-4AE5-AB20-20F40870DD0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3E87-2436-4448-9B63-1DA75F1C5DC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7B3F-5F32-4D40-B70E-4B2E5F70D8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A268-4346-449D-8940-F7802832C3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68E2-D3AA-4961-8D66-F495A6CA81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7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2825-75D0-43E0-B832-F1ACBCC62A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3E86-6181-4D94-80C2-71201597A5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13CB-ED7C-4C94-95A1-A1DBC15D0A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FAAD-4D23-41F7-8181-99381F332A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ACC1-372B-447C-B23C-4C8EAD01422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8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FA71-FEAB-44FB-BA2C-A062CEFECA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 type="ftr" idx="9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3959-619A-4B2F-8AF0-2F24DAA4320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861C-7021-4B48-85B5-B30B3219595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ED0C-35F6-4DE5-A689-6BA345834B9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179F-8B34-47F9-9661-0779A05DAC7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8C24-793D-499C-A58B-1EF62866E28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A2D8-452E-4F8A-926A-9E412AEFC76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8B52-56DF-4CB8-BDF0-1C651BE9B36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3BC7-CEF1-485F-B4D6-946A6D20D5C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5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1486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8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位数乘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Oval 5"/>
          <p:cNvSpPr/>
          <p:nvPr/>
        </p:nvSpPr>
        <p:spPr>
          <a:xfrm>
            <a:off x="309096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Rectangle 6"/>
          <p:cNvSpPr/>
          <p:nvPr/>
        </p:nvSpPr>
        <p:spPr>
          <a:xfrm>
            <a:off x="2428920" y="2666880"/>
            <a:ext cx="648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整 理 和 复 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文本框 2"/>
          <p:cNvSpPr/>
          <p:nvPr/>
        </p:nvSpPr>
        <p:spPr>
          <a:xfrm>
            <a:off x="507960" y="90504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文本框 3"/>
          <p:cNvSpPr/>
          <p:nvPr/>
        </p:nvSpPr>
        <p:spPr>
          <a:xfrm>
            <a:off x="593640" y="1628640"/>
            <a:ext cx="81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≈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≈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≈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≈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文本框 8"/>
          <p:cNvSpPr/>
          <p:nvPr/>
        </p:nvSpPr>
        <p:spPr>
          <a:xfrm>
            <a:off x="2054160" y="20224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文本框 4"/>
          <p:cNvSpPr/>
          <p:nvPr/>
        </p:nvSpPr>
        <p:spPr>
          <a:xfrm>
            <a:off x="6727680" y="20224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文本框 6"/>
          <p:cNvSpPr/>
          <p:nvPr/>
        </p:nvSpPr>
        <p:spPr>
          <a:xfrm>
            <a:off x="2276640" y="2832120"/>
            <a:ext cx="9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文本框 9"/>
          <p:cNvSpPr/>
          <p:nvPr/>
        </p:nvSpPr>
        <p:spPr>
          <a:xfrm>
            <a:off x="6813720" y="283212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670" name="圆角矩形 16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672" name="椭圆 1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73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4" name="椭圆 20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75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6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7" name="圆角矩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8" name="圆角矩形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9" name="圆角矩形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文本框 2"/>
          <p:cNvSpPr/>
          <p:nvPr/>
        </p:nvSpPr>
        <p:spPr>
          <a:xfrm>
            <a:off x="636480" y="1000080"/>
            <a:ext cx="27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竖式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文本框 3"/>
          <p:cNvSpPr/>
          <p:nvPr/>
        </p:nvSpPr>
        <p:spPr>
          <a:xfrm>
            <a:off x="888840" y="1660680"/>
            <a:ext cx="22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文本框 4"/>
          <p:cNvSpPr/>
          <p:nvPr/>
        </p:nvSpPr>
        <p:spPr>
          <a:xfrm>
            <a:off x="4870440" y="166068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文本框 8"/>
          <p:cNvSpPr/>
          <p:nvPr/>
        </p:nvSpPr>
        <p:spPr>
          <a:xfrm>
            <a:off x="888840" y="3821040"/>
            <a:ext cx="22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文本框 9"/>
          <p:cNvSpPr/>
          <p:nvPr/>
        </p:nvSpPr>
        <p:spPr>
          <a:xfrm>
            <a:off x="4965840" y="371484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文本框 10"/>
          <p:cNvSpPr/>
          <p:nvPr/>
        </p:nvSpPr>
        <p:spPr>
          <a:xfrm>
            <a:off x="2300400" y="166068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文本框 11"/>
          <p:cNvSpPr/>
          <p:nvPr/>
        </p:nvSpPr>
        <p:spPr>
          <a:xfrm>
            <a:off x="6359400" y="1660680"/>
            <a:ext cx="7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文本框 12"/>
          <p:cNvSpPr/>
          <p:nvPr/>
        </p:nvSpPr>
        <p:spPr>
          <a:xfrm>
            <a:off x="2347920" y="382104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6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文本框 13"/>
          <p:cNvSpPr/>
          <p:nvPr/>
        </p:nvSpPr>
        <p:spPr>
          <a:xfrm>
            <a:off x="6453360" y="371484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9" name="组合 8"/>
          <p:cNvGrpSpPr/>
          <p:nvPr/>
        </p:nvGrpSpPr>
        <p:grpSpPr>
          <a:xfrm>
            <a:off x="911160" y="2041560"/>
            <a:ext cx="2436840" cy="1526400"/>
            <a:chOff x="911160" y="2041560"/>
            <a:chExt cx="2436840" cy="1526400"/>
          </a:xfrm>
        </p:grpSpPr>
        <p:sp>
          <p:nvSpPr>
            <p:cNvPr id="1690" name="文本框 14"/>
            <p:cNvSpPr/>
            <p:nvPr/>
          </p:nvSpPr>
          <p:spPr>
            <a:xfrm>
              <a:off x="911160" y="2041560"/>
              <a:ext cx="2436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  3 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直接连接符 15"/>
            <p:cNvSpPr/>
            <p:nvPr/>
          </p:nvSpPr>
          <p:spPr>
            <a:xfrm>
              <a:off x="1117440" y="2968560"/>
              <a:ext cx="174780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文本框 16"/>
            <p:cNvSpPr/>
            <p:nvPr/>
          </p:nvSpPr>
          <p:spPr>
            <a:xfrm>
              <a:off x="1223640" y="3108240"/>
              <a:ext cx="17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  4  1   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3" name="组合 9"/>
          <p:cNvGrpSpPr/>
          <p:nvPr/>
        </p:nvGrpSpPr>
        <p:grpSpPr>
          <a:xfrm>
            <a:off x="4849920" y="2041560"/>
            <a:ext cx="2436840" cy="1526400"/>
            <a:chOff x="4849920" y="2041560"/>
            <a:chExt cx="2436840" cy="1526400"/>
          </a:xfrm>
        </p:grpSpPr>
        <p:sp>
          <p:nvSpPr>
            <p:cNvPr id="1694" name="文本框 17"/>
            <p:cNvSpPr/>
            <p:nvPr/>
          </p:nvSpPr>
          <p:spPr>
            <a:xfrm>
              <a:off x="4849920" y="2041560"/>
              <a:ext cx="2436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 0 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直接连接符 18"/>
            <p:cNvSpPr/>
            <p:nvPr/>
          </p:nvSpPr>
          <p:spPr>
            <a:xfrm>
              <a:off x="5099400" y="2968560"/>
              <a:ext cx="174780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文本框 19"/>
            <p:cNvSpPr/>
            <p:nvPr/>
          </p:nvSpPr>
          <p:spPr>
            <a:xfrm>
              <a:off x="5432760" y="3108240"/>
              <a:ext cx="17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  5  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7" name="组合 10"/>
          <p:cNvGrpSpPr/>
          <p:nvPr/>
        </p:nvGrpSpPr>
        <p:grpSpPr>
          <a:xfrm>
            <a:off x="984240" y="4278240"/>
            <a:ext cx="2436840" cy="1620360"/>
            <a:chOff x="984240" y="4278240"/>
            <a:chExt cx="2436840" cy="1620360"/>
          </a:xfrm>
        </p:grpSpPr>
        <p:sp>
          <p:nvSpPr>
            <p:cNvPr id="1698" name="文本框 20"/>
            <p:cNvSpPr/>
            <p:nvPr/>
          </p:nvSpPr>
          <p:spPr>
            <a:xfrm>
              <a:off x="984240" y="4278240"/>
              <a:ext cx="2436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 5 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直接连接符 21"/>
            <p:cNvSpPr/>
            <p:nvPr/>
          </p:nvSpPr>
          <p:spPr>
            <a:xfrm>
              <a:off x="1255320" y="5305680"/>
              <a:ext cx="174780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文本框 22"/>
            <p:cNvSpPr/>
            <p:nvPr/>
          </p:nvSpPr>
          <p:spPr>
            <a:xfrm>
              <a:off x="1457280" y="5438880"/>
              <a:ext cx="14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 6  0  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1" name="组合 11"/>
          <p:cNvGrpSpPr/>
          <p:nvPr/>
        </p:nvGrpSpPr>
        <p:grpSpPr>
          <a:xfrm>
            <a:off x="5083200" y="4278240"/>
            <a:ext cx="2435040" cy="1620360"/>
            <a:chOff x="5083200" y="4278240"/>
            <a:chExt cx="2435040" cy="1620360"/>
          </a:xfrm>
        </p:grpSpPr>
        <p:sp>
          <p:nvSpPr>
            <p:cNvPr id="1702" name="文本框 23"/>
            <p:cNvSpPr/>
            <p:nvPr/>
          </p:nvSpPr>
          <p:spPr>
            <a:xfrm>
              <a:off x="5083200" y="4278240"/>
              <a:ext cx="2435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  4 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直接连接符 24"/>
            <p:cNvSpPr/>
            <p:nvPr/>
          </p:nvSpPr>
          <p:spPr>
            <a:xfrm>
              <a:off x="5422680" y="5305680"/>
              <a:ext cx="17474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文本框 25"/>
            <p:cNvSpPr/>
            <p:nvPr/>
          </p:nvSpPr>
          <p:spPr>
            <a:xfrm>
              <a:off x="5457600" y="54388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  0  2  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706" name="圆角矩形 16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708" name="椭圆 3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09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0" name="椭圆 20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11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2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3" name="圆角矩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4" name="圆角矩形 6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5" name="圆角矩形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文本框 2"/>
          <p:cNvSpPr/>
          <p:nvPr/>
        </p:nvSpPr>
        <p:spPr>
          <a:xfrm>
            <a:off x="306360" y="882720"/>
            <a:ext cx="29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解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文本框 3"/>
          <p:cNvSpPr/>
          <p:nvPr/>
        </p:nvSpPr>
        <p:spPr>
          <a:xfrm>
            <a:off x="412920" y="1479600"/>
            <a:ext cx="84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辆汽车每小时行驶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米，从甲地到乙地共行驶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，甲、乙两地相距多少千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文本框 4"/>
          <p:cNvSpPr/>
          <p:nvPr/>
        </p:nvSpPr>
        <p:spPr>
          <a:xfrm>
            <a:off x="1871640" y="2800440"/>
            <a:ext cx="37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1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=69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文本框 6"/>
          <p:cNvSpPr/>
          <p:nvPr/>
        </p:nvSpPr>
        <p:spPr>
          <a:xfrm>
            <a:off x="1073160" y="3608280"/>
            <a:ext cx="51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甲、乙两地相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9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721" name="圆角矩形 16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723" name="椭圆 1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24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5" name="椭圆 20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26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7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8" name="圆角矩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9" name="圆角矩形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0" name="圆角矩形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文本框 2"/>
          <p:cNvSpPr/>
          <p:nvPr/>
        </p:nvSpPr>
        <p:spPr>
          <a:xfrm>
            <a:off x="326880" y="873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头象的体重是多少千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2" name="组合 12"/>
          <p:cNvGrpSpPr/>
          <p:nvPr/>
        </p:nvGrpSpPr>
        <p:grpSpPr>
          <a:xfrm>
            <a:off x="804960" y="1511280"/>
            <a:ext cx="2133000" cy="1663200"/>
            <a:chOff x="804960" y="1511280"/>
            <a:chExt cx="2133000" cy="1663200"/>
          </a:xfrm>
        </p:grpSpPr>
        <p:pic>
          <p:nvPicPr>
            <p:cNvPr id="1733" name="图片 3" descr="F1~ZRY)3ZJSW6_5ZRJW2YAG"/>
            <p:cNvPicPr/>
            <p:nvPr/>
          </p:nvPicPr>
          <p:blipFill>
            <a:blip r:embed="rId1"/>
            <a:stretch/>
          </p:blipFill>
          <p:spPr>
            <a:xfrm flipH="1">
              <a:off x="1509480" y="2183400"/>
              <a:ext cx="1428480" cy="99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4" name="图片 6" descr="R6PEPN8X6D$W%S4WDXFKZF2"/>
            <p:cNvPicPr/>
            <p:nvPr/>
          </p:nvPicPr>
          <p:blipFill>
            <a:blip r:embed="rId2"/>
            <a:stretch/>
          </p:blipFill>
          <p:spPr>
            <a:xfrm>
              <a:off x="804960" y="1511280"/>
              <a:ext cx="1741680" cy="6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文本框 10"/>
            <p:cNvSpPr/>
            <p:nvPr/>
          </p:nvSpPr>
          <p:spPr>
            <a:xfrm>
              <a:off x="969840" y="1679400"/>
              <a:ext cx="148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重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408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克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6" name="组合 13"/>
          <p:cNvGrpSpPr/>
          <p:nvPr/>
        </p:nvGrpSpPr>
        <p:grpSpPr>
          <a:xfrm>
            <a:off x="3860640" y="1390680"/>
            <a:ext cx="3295800" cy="1557360"/>
            <a:chOff x="3860640" y="1390680"/>
            <a:chExt cx="3295800" cy="1557360"/>
          </a:xfrm>
        </p:grpSpPr>
        <p:pic>
          <p:nvPicPr>
            <p:cNvPr id="1737" name="图片 4" descr="2O4)1@(NBE5[9S$434R~3MI"/>
            <p:cNvPicPr/>
            <p:nvPr/>
          </p:nvPicPr>
          <p:blipFill>
            <a:blip r:embed="rId3"/>
            <a:stretch/>
          </p:blipFill>
          <p:spPr>
            <a:xfrm>
              <a:off x="5756760" y="2062440"/>
              <a:ext cx="139968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图片 9" descr="R6PEPN8X6D$W%S4WDXFKZF2"/>
            <p:cNvPicPr/>
            <p:nvPr/>
          </p:nvPicPr>
          <p:blipFill>
            <a:blip r:embed="rId4"/>
            <a:stretch/>
          </p:blipFill>
          <p:spPr>
            <a:xfrm>
              <a:off x="3860640" y="1390680"/>
              <a:ext cx="252828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文本框 11"/>
            <p:cNvSpPr/>
            <p:nvPr/>
          </p:nvSpPr>
          <p:spPr>
            <a:xfrm>
              <a:off x="4083840" y="1390680"/>
              <a:ext cx="22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的体重比你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倍还多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162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克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0" name="文本框 14"/>
          <p:cNvSpPr/>
          <p:nvPr/>
        </p:nvSpPr>
        <p:spPr>
          <a:xfrm>
            <a:off x="2004840" y="3363840"/>
            <a:ext cx="43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+162=342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文本框 15"/>
          <p:cNvSpPr/>
          <p:nvPr/>
        </p:nvSpPr>
        <p:spPr>
          <a:xfrm>
            <a:off x="1203480" y="4268880"/>
            <a:ext cx="51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这头大象的体重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42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743" name="圆角矩形 16" descr=""/>
            <p:cNvPicPr/>
            <p:nvPr/>
          </p:nvPicPr>
          <p:blipFill>
            <a:blip r:embed="rId5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745" name="椭圆 1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46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椭圆 20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48" name="椭圆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9" name="圆角矩形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0" name="圆角矩形 23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1" name="圆角矩形 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2" name="圆角矩形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文本框 2"/>
          <p:cNvSpPr/>
          <p:nvPr/>
        </p:nvSpPr>
        <p:spPr>
          <a:xfrm>
            <a:off x="0" y="957240"/>
            <a:ext cx="91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录入一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字的作文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够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文本框 4"/>
          <p:cNvSpPr/>
          <p:nvPr/>
        </p:nvSpPr>
        <p:spPr>
          <a:xfrm>
            <a:off x="1487520" y="1974960"/>
            <a:ext cx="22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=7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文本框 6"/>
          <p:cNvSpPr/>
          <p:nvPr/>
        </p:nvSpPr>
        <p:spPr>
          <a:xfrm>
            <a:off x="3905280" y="205416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文本框 8"/>
          <p:cNvSpPr/>
          <p:nvPr/>
        </p:nvSpPr>
        <p:spPr>
          <a:xfrm>
            <a:off x="1552680" y="2990880"/>
            <a:ext cx="46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钟不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758" name="圆角矩形 16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760" name="椭圆 1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61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2" name="椭圆 20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63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4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5" name="圆角矩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6" name="圆角矩形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7" name="圆角矩形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文本框 2"/>
          <p:cNvSpPr/>
          <p:nvPr/>
        </p:nvSpPr>
        <p:spPr>
          <a:xfrm>
            <a:off x="338040" y="882720"/>
            <a:ext cx="833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张师傅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生产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零件，照这样的生产速度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可以生产多少个零件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文本框 4"/>
          <p:cNvSpPr/>
          <p:nvPr/>
        </p:nvSpPr>
        <p:spPr>
          <a:xfrm>
            <a:off x="1711440" y="2459160"/>
            <a:ext cx="28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=5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文本框 8"/>
          <p:cNvSpPr/>
          <p:nvPr/>
        </p:nvSpPr>
        <p:spPr>
          <a:xfrm>
            <a:off x="1073160" y="344952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照这样的速度，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小时可以生产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个零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772" name="圆角矩形 16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774" name="椭圆 1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75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6" name="椭圆 20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77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8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9" name="圆角矩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0" name="圆角矩形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1" name="圆角矩形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文本框 2"/>
          <p:cNvSpPr/>
          <p:nvPr/>
        </p:nvSpPr>
        <p:spPr>
          <a:xfrm>
            <a:off x="369720" y="914400"/>
            <a:ext cx="50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面是体育用品店的价格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3" name=""/>
          <p:cNvGraphicFramePr/>
          <p:nvPr/>
        </p:nvGraphicFramePr>
        <p:xfrm>
          <a:off x="736560" y="1722600"/>
          <a:ext cx="5900760" cy="774360"/>
        </p:xfrm>
        <a:graphic>
          <a:graphicData uri="http://schemas.openxmlformats.org/drawingml/2006/table">
            <a:tbl>
              <a:tblPr/>
              <a:tblGrid>
                <a:gridCol w="1474920"/>
                <a:gridCol w="1474560"/>
                <a:gridCol w="1474920"/>
                <a:gridCol w="1476360"/>
              </a:tblGrid>
              <a:tr h="398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商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篮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足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4" name="文本框 4"/>
          <p:cNvSpPr/>
          <p:nvPr/>
        </p:nvSpPr>
        <p:spPr>
          <a:xfrm>
            <a:off x="550800" y="2789280"/>
            <a:ext cx="81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育老师买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篮球，一共需要多少钱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文本框 6"/>
          <p:cNvSpPr/>
          <p:nvPr/>
        </p:nvSpPr>
        <p:spPr>
          <a:xfrm>
            <a:off x="736560" y="4524480"/>
            <a:ext cx="81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请你提出一个乘法计算的问题，并解答出来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文本框 8"/>
          <p:cNvSpPr/>
          <p:nvPr/>
        </p:nvSpPr>
        <p:spPr>
          <a:xfrm>
            <a:off x="1541520" y="3308400"/>
            <a:ext cx="33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=96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文本框 9"/>
          <p:cNvSpPr/>
          <p:nvPr/>
        </p:nvSpPr>
        <p:spPr>
          <a:xfrm>
            <a:off x="1031760" y="391644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一共需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6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文本框 10"/>
          <p:cNvSpPr/>
          <p:nvPr/>
        </p:nvSpPr>
        <p:spPr>
          <a:xfrm>
            <a:off x="1541520" y="5470560"/>
            <a:ext cx="67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答案不唯一，问题合理，解答正确即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790" name="圆角矩形 16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792" name="椭圆 1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93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4" name="椭圆 20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795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6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7" name="圆角矩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8" name="圆角矩形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9" name="圆角矩形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7" name="组合 6"/>
          <p:cNvGrpSpPr/>
          <p:nvPr/>
        </p:nvGrpSpPr>
        <p:grpSpPr>
          <a:xfrm>
            <a:off x="1143000" y="3494160"/>
            <a:ext cx="6215040" cy="2720880"/>
            <a:chOff x="1143000" y="3494160"/>
            <a:chExt cx="6215040" cy="2720880"/>
          </a:xfrm>
        </p:grpSpPr>
        <p:pic>
          <p:nvPicPr>
            <p:cNvPr id="1498" name="Picture 2" descr="D:\我的文档-桌面-收藏夹\桌面\1.png"/>
            <p:cNvPicPr/>
            <p:nvPr/>
          </p:nvPicPr>
          <p:blipFill>
            <a:blip r:embed="rId1">
              <a:grayscl/>
              <a:lum contrast="30000"/>
            </a:blip>
            <a:srcRect l="0" t="54867" r="-2206" b="605"/>
            <a:stretch/>
          </p:blipFill>
          <p:spPr>
            <a:xfrm>
              <a:off x="1143000" y="3779640"/>
              <a:ext cx="6215040" cy="24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9" name="TextBox 3"/>
            <p:cNvSpPr/>
            <p:nvPr/>
          </p:nvSpPr>
          <p:spPr>
            <a:xfrm>
              <a:off x="1571400" y="3494160"/>
              <a:ext cx="121428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或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0" name="Picture 2" descr="D:\我的文档-桌面-收藏夹\桌面\1.png"/>
          <p:cNvPicPr/>
          <p:nvPr/>
        </p:nvPicPr>
        <p:blipFill>
          <a:blip r:embed="rId2">
            <a:grayscl/>
            <a:lum contrast="30000"/>
          </a:blip>
          <a:srcRect l="0" t="0" r="1317" b="45140"/>
          <a:stretch/>
        </p:blipFill>
        <p:spPr>
          <a:xfrm>
            <a:off x="1357200" y="434880"/>
            <a:ext cx="6000840" cy="3000600"/>
          </a:xfrm>
          <a:prstGeom prst="rect">
            <a:avLst/>
          </a:prstGeom>
          <a:ln w="0">
            <a:noFill/>
          </a:ln>
        </p:spPr>
      </p:pic>
      <p:grpSp>
        <p:nvGrpSpPr>
          <p:cNvPr id="15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502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50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05" name="椭圆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07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8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9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0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1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51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515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1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3" name="TextBox 3"/>
          <p:cNvSpPr/>
          <p:nvPr/>
        </p:nvSpPr>
        <p:spPr>
          <a:xfrm>
            <a:off x="501480" y="-93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TextBox 5"/>
          <p:cNvSpPr/>
          <p:nvPr/>
        </p:nvSpPr>
        <p:spPr>
          <a:xfrm>
            <a:off x="571680" y="1071720"/>
            <a:ext cx="5286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计算下面各题，说一说乘的顺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5" name="组合 11"/>
          <p:cNvGrpSpPr/>
          <p:nvPr/>
        </p:nvGrpSpPr>
        <p:grpSpPr>
          <a:xfrm>
            <a:off x="7143840" y="1785960"/>
            <a:ext cx="1643040" cy="1571760"/>
            <a:chOff x="7143840" y="1785960"/>
            <a:chExt cx="1643040" cy="1571760"/>
          </a:xfrm>
        </p:grpSpPr>
        <p:sp>
          <p:nvSpPr>
            <p:cNvPr id="1526" name="TextBox 7"/>
            <p:cNvSpPr/>
            <p:nvPr/>
          </p:nvSpPr>
          <p:spPr>
            <a:xfrm>
              <a:off x="7143840" y="17859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 8 0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    2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直接连接符 8"/>
            <p:cNvSpPr/>
            <p:nvPr/>
          </p:nvSpPr>
          <p:spPr>
            <a:xfrm>
              <a:off x="7358040" y="3000600"/>
              <a:ext cx="1428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8" name="组合 11"/>
          <p:cNvGrpSpPr/>
          <p:nvPr/>
        </p:nvGrpSpPr>
        <p:grpSpPr>
          <a:xfrm>
            <a:off x="5143680" y="1785960"/>
            <a:ext cx="1643040" cy="1571760"/>
            <a:chOff x="5143680" y="1785960"/>
            <a:chExt cx="1643040" cy="1571760"/>
          </a:xfrm>
        </p:grpSpPr>
        <p:sp>
          <p:nvSpPr>
            <p:cNvPr id="1529" name="TextBox 10"/>
            <p:cNvSpPr/>
            <p:nvPr/>
          </p:nvSpPr>
          <p:spPr>
            <a:xfrm>
              <a:off x="5143680" y="17859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 0 5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    8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直接连接符 11"/>
            <p:cNvSpPr/>
            <p:nvPr/>
          </p:nvSpPr>
          <p:spPr>
            <a:xfrm>
              <a:off x="5357880" y="3000600"/>
              <a:ext cx="1428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1" name="组合 12"/>
          <p:cNvGrpSpPr/>
          <p:nvPr/>
        </p:nvGrpSpPr>
        <p:grpSpPr>
          <a:xfrm>
            <a:off x="2857680" y="1785960"/>
            <a:ext cx="1643040" cy="1571760"/>
            <a:chOff x="2857680" y="1785960"/>
            <a:chExt cx="1643040" cy="1571760"/>
          </a:xfrm>
        </p:grpSpPr>
        <p:sp>
          <p:nvSpPr>
            <p:cNvPr id="1532" name="TextBox 13"/>
            <p:cNvSpPr/>
            <p:nvPr/>
          </p:nvSpPr>
          <p:spPr>
            <a:xfrm>
              <a:off x="2857680" y="17859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 2 6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    7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直接连接符 14"/>
            <p:cNvSpPr/>
            <p:nvPr/>
          </p:nvSpPr>
          <p:spPr>
            <a:xfrm>
              <a:off x="2928960" y="2929320"/>
              <a:ext cx="1428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4" name="组合 11"/>
          <p:cNvGrpSpPr/>
          <p:nvPr/>
        </p:nvGrpSpPr>
        <p:grpSpPr>
          <a:xfrm>
            <a:off x="857160" y="1785960"/>
            <a:ext cx="1643040" cy="1571760"/>
            <a:chOff x="857160" y="1785960"/>
            <a:chExt cx="1643040" cy="1571760"/>
          </a:xfrm>
        </p:grpSpPr>
        <p:sp>
          <p:nvSpPr>
            <p:cNvPr id="1535" name="TextBox 16"/>
            <p:cNvSpPr/>
            <p:nvPr/>
          </p:nvSpPr>
          <p:spPr>
            <a:xfrm>
              <a:off x="857160" y="17859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7 9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  4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直接连接符 17"/>
            <p:cNvSpPr/>
            <p:nvPr/>
          </p:nvSpPr>
          <p:spPr>
            <a:xfrm>
              <a:off x="928440" y="2929320"/>
              <a:ext cx="1071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7" name="矩形 19"/>
          <p:cNvSpPr/>
          <p:nvPr/>
        </p:nvSpPr>
        <p:spPr>
          <a:xfrm>
            <a:off x="1062360" y="30718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 1 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矩形 20"/>
          <p:cNvSpPr/>
          <p:nvPr/>
        </p:nvSpPr>
        <p:spPr>
          <a:xfrm>
            <a:off x="3076920" y="3071880"/>
            <a:ext cx="11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 9 8 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矩形 21"/>
          <p:cNvSpPr/>
          <p:nvPr/>
        </p:nvSpPr>
        <p:spPr>
          <a:xfrm>
            <a:off x="5362920" y="3071880"/>
            <a:ext cx="11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 6 4 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矩形 22"/>
          <p:cNvSpPr/>
          <p:nvPr/>
        </p:nvSpPr>
        <p:spPr>
          <a:xfrm>
            <a:off x="7620480" y="307188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 6 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54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544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4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4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52" name="TextBox 3"/>
          <p:cNvSpPr/>
          <p:nvPr/>
        </p:nvSpPr>
        <p:spPr>
          <a:xfrm>
            <a:off x="501480" y="-93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extBox 23"/>
          <p:cNvSpPr/>
          <p:nvPr/>
        </p:nvSpPr>
        <p:spPr>
          <a:xfrm>
            <a:off x="179280" y="1017720"/>
            <a:ext cx="82155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相同的书摞起来，高度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毫米。如果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这样的书摞起来，高度是多少毫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矩形 24"/>
          <p:cNvSpPr/>
          <p:nvPr/>
        </p:nvSpPr>
        <p:spPr>
          <a:xfrm>
            <a:off x="1055520" y="2633760"/>
            <a:ext cx="5929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÷3=6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毫米）  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×6=18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毫米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高度是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毫米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TextBox 2"/>
          <p:cNvSpPr/>
          <p:nvPr/>
        </p:nvSpPr>
        <p:spPr>
          <a:xfrm>
            <a:off x="214200" y="642960"/>
            <a:ext cx="82155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看一看从第一行的数怎样得到第二行的数，你能发现什么？再把表填完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6" name=""/>
          <p:cNvGraphicFramePr/>
          <p:nvPr/>
        </p:nvGraphicFramePr>
        <p:xfrm>
          <a:off x="928800" y="2039760"/>
          <a:ext cx="7072200" cy="1317600"/>
        </p:xfrm>
        <a:graphic>
          <a:graphicData uri="http://schemas.openxmlformats.org/drawingml/2006/table">
            <a:tbl>
              <a:tblPr/>
              <a:tblGrid>
                <a:gridCol w="1009800"/>
                <a:gridCol w="1011240"/>
                <a:gridCol w="1009440"/>
                <a:gridCol w="1011240"/>
                <a:gridCol w="1009800"/>
                <a:gridCol w="1011240"/>
                <a:gridCol w="1009440"/>
              </a:tblGrid>
              <a:tr h="658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7" name="矩形 4"/>
          <p:cNvSpPr/>
          <p:nvPr/>
        </p:nvSpPr>
        <p:spPr>
          <a:xfrm>
            <a:off x="4091400" y="2786040"/>
            <a:ext cx="7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8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矩形 5"/>
          <p:cNvSpPr/>
          <p:nvPr/>
        </p:nvSpPr>
        <p:spPr>
          <a:xfrm>
            <a:off x="5009400" y="27860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6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矩形 6"/>
          <p:cNvSpPr/>
          <p:nvPr/>
        </p:nvSpPr>
        <p:spPr>
          <a:xfrm>
            <a:off x="6031800" y="27860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21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矩形 7"/>
          <p:cNvSpPr/>
          <p:nvPr/>
        </p:nvSpPr>
        <p:spPr>
          <a:xfrm>
            <a:off x="7031880" y="27860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8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矩形 8"/>
          <p:cNvSpPr/>
          <p:nvPr/>
        </p:nvSpPr>
        <p:spPr>
          <a:xfrm>
            <a:off x="888840" y="3665520"/>
            <a:ext cx="496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第一行的数乘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得到第二行的数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563" name="圆角矩形 5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565" name="椭圆 55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66" name="椭圆 56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7" name="椭圆 57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68" name="椭圆 5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9" name="圆角矩形 5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0" name="圆角矩形 6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1" name="圆角矩形 6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2" name="圆角矩形 6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73" name="TextBox 3"/>
          <p:cNvSpPr/>
          <p:nvPr/>
        </p:nvSpPr>
        <p:spPr>
          <a:xfrm>
            <a:off x="501480" y="-93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文本框 2"/>
          <p:cNvSpPr/>
          <p:nvPr/>
        </p:nvSpPr>
        <p:spPr>
          <a:xfrm>
            <a:off x="365040" y="71928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文本框 3"/>
          <p:cNvSpPr/>
          <p:nvPr/>
        </p:nvSpPr>
        <p:spPr>
          <a:xfrm>
            <a:off x="365040" y="1238400"/>
            <a:ext cx="8429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桶食用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，食堂买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桶，大约需要（   ）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 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积的末尾有（   ）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积中间有（   ）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位数乘一位数，先从多位数的（   ）位乘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   5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想要使积是三位数，  里应填（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矩形 4"/>
          <p:cNvSpPr/>
          <p:nvPr/>
        </p:nvSpPr>
        <p:spPr>
          <a:xfrm>
            <a:off x="973080" y="5313240"/>
            <a:ext cx="4161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矩形 6"/>
          <p:cNvSpPr/>
          <p:nvPr/>
        </p:nvSpPr>
        <p:spPr>
          <a:xfrm>
            <a:off x="5902200" y="5313240"/>
            <a:ext cx="4161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文本框 8"/>
          <p:cNvSpPr/>
          <p:nvPr/>
        </p:nvSpPr>
        <p:spPr>
          <a:xfrm>
            <a:off x="7655040" y="149076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文本框 9"/>
          <p:cNvSpPr/>
          <p:nvPr/>
        </p:nvSpPr>
        <p:spPr>
          <a:xfrm>
            <a:off x="4735440" y="27036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文本框 10"/>
          <p:cNvSpPr/>
          <p:nvPr/>
        </p:nvSpPr>
        <p:spPr>
          <a:xfrm>
            <a:off x="1476360" y="337356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文本框 11"/>
          <p:cNvSpPr/>
          <p:nvPr/>
        </p:nvSpPr>
        <p:spPr>
          <a:xfrm>
            <a:off x="6076800" y="4013280"/>
            <a:ext cx="7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文本框 12"/>
          <p:cNvSpPr/>
          <p:nvPr/>
        </p:nvSpPr>
        <p:spPr>
          <a:xfrm>
            <a:off x="5602320" y="4662360"/>
            <a:ext cx="7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文本框 13"/>
          <p:cNvSpPr/>
          <p:nvPr/>
        </p:nvSpPr>
        <p:spPr>
          <a:xfrm>
            <a:off x="973080" y="5877000"/>
            <a:ext cx="7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585" name="圆角矩形 16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587" name="椭圆 1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88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9" name="椭圆 20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90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1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2" name="圆角矩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3" name="圆角矩形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4" name="圆角矩形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文本框 8"/>
          <p:cNvSpPr/>
          <p:nvPr/>
        </p:nvSpPr>
        <p:spPr>
          <a:xfrm>
            <a:off x="365040" y="701640"/>
            <a:ext cx="29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选一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文本框 9"/>
          <p:cNvSpPr/>
          <p:nvPr/>
        </p:nvSpPr>
        <p:spPr>
          <a:xfrm>
            <a:off x="434880" y="1220760"/>
            <a:ext cx="841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两位数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所得的积（    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定是两位数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定是三位数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能是两位数，也可能是三位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文本框 10"/>
          <p:cNvSpPr/>
          <p:nvPr/>
        </p:nvSpPr>
        <p:spPr>
          <a:xfrm>
            <a:off x="512640" y="2073240"/>
            <a:ext cx="825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因数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9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另一个因数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积大约是（       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.3200           B.300            C.3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文本框 11"/>
          <p:cNvSpPr/>
          <p:nvPr/>
        </p:nvSpPr>
        <p:spPr>
          <a:xfrm>
            <a:off x="512640" y="3078000"/>
            <a:ext cx="751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 84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积最高位是（    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百位   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千位   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万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文本框 12"/>
          <p:cNvSpPr/>
          <p:nvPr/>
        </p:nvSpPr>
        <p:spPr>
          <a:xfrm>
            <a:off x="441360" y="3976560"/>
            <a:ext cx="741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要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    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积最接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4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   里应填（       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. 7             B.  8            C.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文本框 13"/>
          <p:cNvSpPr/>
          <p:nvPr/>
        </p:nvSpPr>
        <p:spPr>
          <a:xfrm>
            <a:off x="441360" y="4971960"/>
            <a:ext cx="83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要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4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×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积是一个三位数，   里最大能填（    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.1              B.  2             C .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矩形 14"/>
          <p:cNvSpPr/>
          <p:nvPr/>
        </p:nvSpPr>
        <p:spPr>
          <a:xfrm>
            <a:off x="4425840" y="5079960"/>
            <a:ext cx="43344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矩形 15"/>
          <p:cNvSpPr/>
          <p:nvPr/>
        </p:nvSpPr>
        <p:spPr>
          <a:xfrm>
            <a:off x="1432080" y="4084560"/>
            <a:ext cx="43308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矩形 16"/>
          <p:cNvSpPr/>
          <p:nvPr/>
        </p:nvSpPr>
        <p:spPr>
          <a:xfrm>
            <a:off x="4356000" y="4132440"/>
            <a:ext cx="43200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矩形 17"/>
          <p:cNvSpPr/>
          <p:nvPr/>
        </p:nvSpPr>
        <p:spPr>
          <a:xfrm>
            <a:off x="1933560" y="5079960"/>
            <a:ext cx="43164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文本框 18"/>
          <p:cNvSpPr/>
          <p:nvPr/>
        </p:nvSpPr>
        <p:spPr>
          <a:xfrm>
            <a:off x="3913200" y="1351080"/>
            <a:ext cx="7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文本框 19"/>
          <p:cNvSpPr/>
          <p:nvPr/>
        </p:nvSpPr>
        <p:spPr>
          <a:xfrm>
            <a:off x="6031080" y="222552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文本框 20"/>
          <p:cNvSpPr/>
          <p:nvPr/>
        </p:nvSpPr>
        <p:spPr>
          <a:xfrm>
            <a:off x="3486240" y="32004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文本框 21"/>
          <p:cNvSpPr/>
          <p:nvPr/>
        </p:nvSpPr>
        <p:spPr>
          <a:xfrm>
            <a:off x="6130800" y="4084560"/>
            <a:ext cx="7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文本框 22"/>
          <p:cNvSpPr/>
          <p:nvPr/>
        </p:nvSpPr>
        <p:spPr>
          <a:xfrm>
            <a:off x="6353280" y="507996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611" name="圆角矩形 8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613" name="椭圆 10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14" name="椭圆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5" name="椭圆 12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16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7" name="圆角矩形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8" name="圆角矩形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9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0" name="圆角矩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文本框 2"/>
          <p:cNvSpPr/>
          <p:nvPr/>
        </p:nvSpPr>
        <p:spPr>
          <a:xfrm>
            <a:off x="401760" y="873000"/>
            <a:ext cx="832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判一判。（正确的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  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误的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  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文本框 6"/>
          <p:cNvSpPr/>
          <p:nvPr/>
        </p:nvSpPr>
        <p:spPr>
          <a:xfrm>
            <a:off x="4022640" y="8730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文本框 8"/>
          <p:cNvSpPr/>
          <p:nvPr/>
        </p:nvSpPr>
        <p:spPr>
          <a:xfrm>
            <a:off x="6510240" y="873000"/>
            <a:ext cx="5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文本框 9"/>
          <p:cNvSpPr/>
          <p:nvPr/>
        </p:nvSpPr>
        <p:spPr>
          <a:xfrm>
            <a:off x="550800" y="1500120"/>
            <a:ext cx="78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0+3=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文本框 10"/>
          <p:cNvSpPr/>
          <p:nvPr/>
        </p:nvSpPr>
        <p:spPr>
          <a:xfrm>
            <a:off x="550800" y="2127240"/>
            <a:ext cx="84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任何数相乘都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文本框 11"/>
          <p:cNvSpPr/>
          <p:nvPr/>
        </p:nvSpPr>
        <p:spPr>
          <a:xfrm>
            <a:off x="550800" y="2787480"/>
            <a:ext cx="84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29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积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文本框 12"/>
          <p:cNvSpPr/>
          <p:nvPr/>
        </p:nvSpPr>
        <p:spPr>
          <a:xfrm>
            <a:off x="550800" y="3414600"/>
            <a:ext cx="84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300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积的中间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文本框 13"/>
          <p:cNvSpPr/>
          <p:nvPr/>
        </p:nvSpPr>
        <p:spPr>
          <a:xfrm>
            <a:off x="615960" y="4137120"/>
            <a:ext cx="840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乘数末尾有几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积的末尾就一定有几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文本框 18"/>
          <p:cNvSpPr/>
          <p:nvPr/>
        </p:nvSpPr>
        <p:spPr>
          <a:xfrm>
            <a:off x="6810480" y="28162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文本框 14"/>
          <p:cNvSpPr/>
          <p:nvPr/>
        </p:nvSpPr>
        <p:spPr>
          <a:xfrm>
            <a:off x="6810480" y="153036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文本框 15"/>
          <p:cNvSpPr/>
          <p:nvPr/>
        </p:nvSpPr>
        <p:spPr>
          <a:xfrm>
            <a:off x="6810480" y="218916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文本框 16"/>
          <p:cNvSpPr/>
          <p:nvPr/>
        </p:nvSpPr>
        <p:spPr>
          <a:xfrm>
            <a:off x="6810480" y="34750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文本框 17"/>
          <p:cNvSpPr/>
          <p:nvPr/>
        </p:nvSpPr>
        <p:spPr>
          <a:xfrm>
            <a:off x="6883560" y="4626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635" name="圆角矩形 16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637" name="椭圆 1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38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9" name="椭圆 20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40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1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2" name="圆角矩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3" name="圆角矩形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4" name="圆角矩形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文本框 2"/>
          <p:cNvSpPr/>
          <p:nvPr/>
        </p:nvSpPr>
        <p:spPr>
          <a:xfrm>
            <a:off x="444600" y="8301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算一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文本框 3"/>
          <p:cNvSpPr/>
          <p:nvPr/>
        </p:nvSpPr>
        <p:spPr>
          <a:xfrm>
            <a:off x="514440" y="1490760"/>
            <a:ext cx="60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写出得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文本框 4"/>
          <p:cNvSpPr/>
          <p:nvPr/>
        </p:nvSpPr>
        <p:spPr>
          <a:xfrm>
            <a:off x="657360" y="2182680"/>
            <a:ext cx="788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=                      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0=                     6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文本框 8"/>
          <p:cNvSpPr/>
          <p:nvPr/>
        </p:nvSpPr>
        <p:spPr>
          <a:xfrm>
            <a:off x="2000160" y="2587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文本框 6"/>
          <p:cNvSpPr/>
          <p:nvPr/>
        </p:nvSpPr>
        <p:spPr>
          <a:xfrm>
            <a:off x="6888240" y="2502000"/>
            <a:ext cx="7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文本框 9"/>
          <p:cNvSpPr/>
          <p:nvPr/>
        </p:nvSpPr>
        <p:spPr>
          <a:xfrm>
            <a:off x="2106720" y="3429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文本框 10"/>
          <p:cNvSpPr/>
          <p:nvPr/>
        </p:nvSpPr>
        <p:spPr>
          <a:xfrm>
            <a:off x="7292880" y="3429000"/>
            <a:ext cx="11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653" name="圆角矩形 16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5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655" name="椭圆 18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56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7" name="椭圆 20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58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0" name="圆角矩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1" name="圆角矩形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2" name="圆角矩形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11:02:33Z</dcterms:created>
  <dc:creator/>
  <dc:description/>
  <dc:language>en-US</dc:language>
  <cp:lastModifiedBy>万润仪器贸易公司</cp:lastModifiedBy>
  <dcterms:modified xsi:type="dcterms:W3CDTF">2020-08-21T01:28:06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